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26A-428F-40FE-AA51-D91EF335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7E42-613E-405F-8C1D-B8B5CF5B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FCF-DF80-4A5A-BEE2-F8183143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500-E689-4402-92F0-3B461CB5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7A7D-B2AB-4E69-9A11-210CE86A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30DA-E127-41D0-ACBA-AFBB1AD3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AA45-3A97-4A95-A4E5-32785F10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A0A7-88CB-4EBD-BA8D-A4026BB5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779D-0F1C-48C9-9569-B9AC2622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59C8-ABE3-4698-92CD-9A09299D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7FEF-B3FB-472A-BD69-96345A71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592-F6B8-412E-AAE5-9E099125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4B0E-F843-4549-8BB0-0D680924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7B1B-61B6-4F7C-87B1-29D49A86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B4D5-F0FE-4C4B-8D43-D1E845D6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A900-3399-4644-8091-9C52CF6E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FE87-DCE4-4D38-BE69-CB65C0D1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380-ADB8-45A8-8087-AC1E49B7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041-6302-4DBA-BAB9-F0ABDC09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684-7978-4D99-8946-1EFEED91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1C8-6ADB-4BDA-9946-95A898CC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BB2-5BC1-4BDF-BEDB-29BC9FC5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72A-00E5-4A14-AA03-09C1FFC6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6E89-604F-42E8-B4A2-579F2797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560F-2403-4E5B-B153-3DF167A42C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4E60-7750-4071-B050-75EBE3E885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b7"/>
                </a:solidFill>
                <a:latin typeface="Broadway"/>
              </a:rPr>
              <a:t>Geometry 1</a:t>
            </a:r>
            <a:br>
              <a:rPr sz="5100"/>
            </a:br>
            <a:r>
              <a:rPr b="1" lang="en-US" sz="3800" spc="-1" strike="noStrike">
                <a:solidFill>
                  <a:srgbClr val="ffffb7"/>
                </a:solidFill>
                <a:latin typeface="Broadway"/>
              </a:rPr>
              <a:t>Monday, November 29, 2010</a:t>
            </a:r>
            <a:endParaRPr b="1" lang="en-US" sz="3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30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termine if three given lengths can create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termine the minimum and maximum length of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mpute angle measures of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olve contextual situations involving angle/side length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ll Work:  What was the best part of the holiday?  What can you be thankful f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 4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sceles, Equilateral and Right tri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ment::  Lesson 4.6  1-4, AND 17-25(SOLVE ON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b7"/>
                </a:solidFill>
                <a:latin typeface="Broadway"/>
              </a:rPr>
              <a:t>Geometry 1</a:t>
            </a:r>
            <a:br>
              <a:rPr sz="5100"/>
            </a:br>
            <a:r>
              <a:rPr b="1" lang="en-US" sz="3800" spc="-1" strike="noStrike">
                <a:solidFill>
                  <a:srgbClr val="ffffb7"/>
                </a:solidFill>
                <a:latin typeface="Broadway"/>
              </a:rPr>
              <a:t>Tuesday, November 30, 2010</a:t>
            </a:r>
            <a:endParaRPr b="1" lang="en-US" sz="3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termine if three given lengths can create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termine the minimum and maximum length of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mpute angle measures of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olve contextual situations involving angle/side length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l Work:  Look on the board (HW numbers 24-25 from 4.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e 4.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ndiculars and Bise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  Lesson 5.1, problems 3-13, 16-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b7"/>
                </a:solidFill>
                <a:latin typeface="Broadway"/>
              </a:rPr>
              <a:t>Geometry 1</a:t>
            </a:r>
            <a:br>
              <a:rPr sz="5100"/>
            </a:br>
            <a:r>
              <a:rPr b="1" lang="en-US" sz="5100" spc="-1" strike="noStrike">
                <a:solidFill>
                  <a:srgbClr val="ffffb7"/>
                </a:solidFill>
                <a:latin typeface="Broadway"/>
              </a:rPr>
              <a:t> </a:t>
            </a:r>
            <a:r>
              <a:rPr b="1" lang="en-US" sz="3800" spc="-1" strike="noStrike">
                <a:solidFill>
                  <a:srgbClr val="ffffb7"/>
                </a:solidFill>
                <a:latin typeface="Broadway"/>
              </a:rPr>
              <a:t>Thursday, December 2, 2010</a:t>
            </a:r>
            <a:endParaRPr b="1" lang="en-US" sz="3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Determine if three given lengths can create a triang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Determine the minimum and maximum length of a triang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ompute angle measures of a triang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olve contextual situations involving angle/side length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l Work:  What is a bisector?  What is a perpendicular bisector?  Explain the differ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e 5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on 5.3, Problems 3-7, 17-18, pg 285 1-4, pg 271 41-5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12-02T21:03:46Z</dcterms:modified>
  <cp:revision>77</cp:revision>
  <dc:subject/>
  <dc:title>Slide 1</dc:title>
</cp:coreProperties>
</file>